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dt" idx="18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74CB3-092B-4359-8E44-019B7A9D46E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Испитивање функције тубула подразумева одређивање гликозурије, реапсорпције аминокиселина и фосфата, излучивање </a:t>
            </a:r>
            <a:r>
              <a:rPr b="0" i="1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Na</a:t>
            </a: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, клиренса литијума, </a:t>
            </a:r>
            <a:r>
              <a:rPr b="0" lang="el-GR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β</a:t>
            </a:r>
            <a:r>
              <a:rPr b="0" lang="sr-CS" sz="1200" spc="-1" strike="noStrike" baseline="-25000">
                <a:solidFill>
                  <a:srgbClr val="ffffff"/>
                </a:solidFill>
                <a:latin typeface="Calibri"/>
                <a:ea typeface="Microsoft YaHei"/>
              </a:rPr>
              <a:t>2</a:t>
            </a: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-микроглобул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центрациона способност бубрега одређује се пробом жеђања и вазопресином. Локализација ензима у ћелијама и њихова појава у урину указује на место лезија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Мерењем</a:t>
            </a:r>
            <a:r>
              <a:rPr b="0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r>
              <a:rPr b="0" i="1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pH</a:t>
            </a:r>
            <a:r>
              <a:rPr b="0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мокраће и концентрације бикарбоната у плазми може указати н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с</a:t>
            </a: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истемску ацидоз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301E3-8402-4D8C-9AB5-3A3747984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CF7158-3C7E-418B-8CF2-8B463BBA4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EE60D-09F3-40B0-BA32-94056F63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92D9-FC02-4822-8B15-7792A3E92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41F9-A8A5-4B8B-80E9-21956281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CF70C-E932-48FB-9D94-4B47DAB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CC554-78C5-4283-BA55-46B48783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59299-6366-4DE0-94F0-7880D893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25BAA-3D9F-4689-9650-3968B9AB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C1FD8-E285-43A0-9A52-79D9E86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14943-CAF5-4386-BBF3-02352161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67669-32E3-4CDC-A089-7DB69D45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5E637-3F98-4AB7-9D8C-237A268F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DE183-4E64-487C-B803-BF4C06B59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77FD3-3AAA-42AE-AD19-F26034CEE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7486-378C-4851-8D6E-0ED1334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9B94D-932E-4E57-9E10-4B8558134D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01181-BAF5-4194-AF1A-FA3A520314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EA859-BBAD-4222-806E-6C501F594EC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5FE5B-2DC3-419F-9D17-8B2672EA44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05A1A-11D7-4934-9B82-0CB2CC0892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1BE79-A6A9-454B-AC8B-F0732ABBDBE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3F35E-5D0A-4F47-99E2-3797119880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325BF-C420-4541-BD06-D7EB20E79D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27DFF-5232-4834-A9F9-5FEE18081F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E4134-FA88-41B8-B95F-5F67593D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ED7A-0D37-4EF9-8464-0BE6CF5C5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3C1D3-2F2E-41FE-9F16-6B523E3C1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198B6-8B42-41F1-8D07-A216351A2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5628E-EF2A-4860-B9AD-F80F99A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C8C27-2CD1-4372-946E-0A2C3869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0581F-EA93-46A0-BDBB-3CB7F998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BFC49-CFFE-4DC2-8698-72B1A324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E084C-A7C8-4372-887F-DA508D5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A9CCC-FC12-4685-B0CA-78CB8CEC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377C-2C30-49E0-93D9-B8412A98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06CDA-56C5-4879-9D5E-0A69A8F0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741C-3294-4A19-9DAC-DD86A62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E3B14-8CEC-4BC7-8340-5809F94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18444-685D-4DD0-A52B-9030DA66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B1FC4-BAF5-4EF6-AA2D-1F5A8426A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4A64-0CD4-4766-97E0-C35BF3CFA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03B0-87C7-490B-8CE7-F6A36AE7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066-A5F5-4A74-83AB-913F675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7C3-BCF0-488B-9E01-2C91CFA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C851-9873-4473-AFFF-26BC97C6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EA39-7926-4E38-8EFE-E465C38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683A-943C-41BF-8FE3-C972A6B2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7EE3-B363-4C81-A4ED-686C4B1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C49-A7D0-4729-829F-B073884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18CA-0EE2-4CA2-88D9-0E1A2D7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FB07-86DC-48E9-98AB-E3EE6F8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57EE-762B-4026-97CD-43E7715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F2FE-98E0-4224-8F31-247A88DC7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1C6D0-BDA1-43D1-9BCA-E119184E27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539D4-870E-4B88-BFCB-49FA7015FF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D2E1E-048C-474A-AFB2-7AE58A89A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5F0B-28F9-4B2E-AE5D-87A0792D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4FD2E-9A19-4266-8D19-DE084E1F1E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0044C-E0DA-4851-AB7C-BB714504C8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4859B-7914-40B6-8787-9D8A6150A4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2BDFD-580C-4B75-BCBA-08652B4399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7B24A-D8A7-41A1-AB61-8CD4F39A6A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AE399-C1FA-465B-BB0C-C27B366C26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7765A-62F6-4B43-9E15-A9B1AF5695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C7566-C2A8-4B14-ABB7-33F888B53F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8F360-84F1-4144-B8C0-0D068B7914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57DBC-6243-4926-B9CF-B8DDE49C6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F32D-D471-49DF-A04D-292A8482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F13B7-9D63-49EE-B30B-6ED11918BE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D24EA-7B80-42D4-853C-8C1BA39C43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FB570-D037-443E-9152-A416EC67D2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AD0A2-E680-4DED-B756-FFD1DE8EC7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0EB16-CCCD-44F4-A322-F4F9D97992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5815B-455C-4659-85FB-5092A59418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FBF91-C71F-4224-AD31-B687FF38F7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C925B-B337-4F7F-8B83-32E4E65142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40EA7-5669-457B-B1FE-6D0CA46F08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81FA4-B5E1-401E-A570-B455891EC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0F7A-1D4D-4A8B-9B1A-6C3E2790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ADEA5-002C-4D38-B9A4-49D243C624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28FD6-AEBF-4307-8A19-AF0D5E7FF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21ED4-981C-4F1A-8EEB-C3A0D488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79317-DF2F-4B29-86F8-2A8C4B5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CF415-0B7C-4957-95CE-0A37C52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654C8-5229-4620-8C8F-FF633744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85466-CFA8-4D58-BC33-0EE8FD30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8B6DD-080A-4F35-822F-75391895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AB6BF-1F84-4FD8-A9A1-932C931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7842D-25BE-40A7-B525-AD5B38AD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0621-F245-4553-A666-4421D248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915CA-73EC-4456-B7FC-476F05B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EE8F7-2628-4F00-8127-1DC1DAB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52FD0-0C67-4BA6-8819-2E1A7EFF7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E1C0-3958-42AA-93D8-305E82A1C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097E-1DC1-4BF9-A7A4-9C6EDED5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50D9-5641-4089-BDE5-C5F8835B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BB5E-9E9A-463E-BF5A-A38CE91A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9094-8AF8-4DE0-85DC-D28F2B12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DC09-B0BC-4539-BE0A-FBC7C28C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56F5-362A-45C3-A87C-08A4BB5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3043-71B1-4F7B-AB07-9264DAC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F79C-23DD-4049-916A-90E8DA5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654F-6F11-4DB0-8173-EC01B3DD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0C0D-C036-48CB-90A3-14F410E1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62DF-7718-4A93-AC47-15A4AC5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F24F-DEE9-4221-A207-A483E315D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D0258-9013-408D-ABAE-3805FAF69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9B573-769D-41BF-B95C-40A242C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4CF62-9A66-4BAB-A314-B0804870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E1577-A69F-4660-B6E9-B167101D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151D3-500A-4748-8768-996FD86A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8A2E-1F48-4885-A3CE-C61BDD4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6DC40-D6B1-4BF9-A15F-754CC704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2A449-9354-4F3F-9D54-150DBFC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E2C90-0E03-42D2-9DD3-81D66A9F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12195-840A-4DC3-9CEE-FFE2C336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F8A27-0EB5-4300-B19B-051F2FCB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F6106-50D6-4EFB-AF32-A2469AA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A6E0D-BC48-4D8D-9B0B-DB9E5A828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F668B-512B-4A2B-916A-2D444BDDF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31524-6F3D-4AEB-809B-A224F1DE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6FBEE3-AF60-4145-8747-8437802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B01B1-5923-4D69-8B3A-34F4AFB95940}" type="slidenum">
              <a: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385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0BF8768-98B4-4CBB-8342-BF6024955999}" type="slidenum">
              <a:rPr b="0" lang="en-U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2228271-2552-40BE-BD64-71CBDBC47B0B}" type="slidenum">
              <a: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AF890-A5E9-4AC4-912F-3BD75741AAA5}" type="slidenum">
              <a: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E03C-E2AA-4B2C-BA74-E272CBB67A7F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7A6AF-9B26-43B1-B6AD-371F90B93740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cap="sq"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278BEFA-23A0-4F92-90A1-B52DBB31D770}" type="slidenum">
              <a:rPr b="0" lang="sr-Latn-CS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1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35200" y="6556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2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E74DA0D-15D3-4FF2-9B7D-C8816B664EB6}" type="slidenum">
              <a: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f4e7ed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4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f4e7e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C408549-DA7B-4841-A19C-BBF545D50796}" type="slidenum">
              <a:rPr b="0" lang="sr-Latn-CS" sz="1100" spc="-1" strike="noStrike">
                <a:solidFill>
                  <a:srgbClr val="f4e7ed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5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6254280" y="655272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30228D9-2093-4C32-A7B7-7152610A4BFB}" type="slidenum">
              <a: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528804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е струковне студије-прва година студ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ска 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14760" y="50007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ф. Др Радојица Сто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419640" y="281160"/>
            <a:ext cx="52117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85840" y="1928880"/>
            <a:ext cx="7715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Промене у изгледу мокра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лечно бела боја 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преципитовани фосфати, пиурија, масне кап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Жута боја 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билирубин, нитрофурантоин, сулфасалазин, уробилин, рибофлав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еђе-црвена боја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меланин, метилдопа, порфобилин, метронидазол, ки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лаво-зелена боја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инфек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-ом, биливердин, метилен пла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Потмули, обострани болови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у лумбалним ложама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ји су праћени тамном мокраћом, благим едемима, главобољом, ХТА, побуђују сумњу на ГН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Једнострани или обострани болови, праћени учесталим болним мокрењем, повишеном температуром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, јављају се код И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Тупи, трајни болови у лумбалном пределу, праћени високом температуром, изразитом осетљивошћу бубрежних ложа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понекад црвенило и оток коже) знак су перинефритиса, запаљења бубрега или перинефритичког апсце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85840" y="1928880"/>
            <a:ext cx="7786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7520" indent="-317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Напад жестоких болова типа колика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, који полази од једног бубрега и шире се дуж уретера ка полним органима или унутрашњој страни бутине, највероватније су последица померања камена из пијелона кроз уретер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ве болове често прати учестало мокрење, појава крви у мокраћи, мука и повраћање, често знаци паралитичког илеу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окализација бола указује на локализацију каме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палу мокраћне бешике прате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супрапубични болови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 често мокрење са боловима и </a:t>
            </a: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сећајем пецкања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при мокрењ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85840" y="1643040"/>
            <a:ext cx="75722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Едеми бубрежног порекл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јављају се или због протеинурије или због смањења гломерулске филтрације или ређе због опструкције мокраћних путева, по правилу су на очним капцима, лицу или на екстремитетима и телу; бледи су, топли и тестасти, нису подложни утицају гравитације па се, обично, примете изју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Симптоми и знаци уремијског синдром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  <a:ea typeface="Microsoft YaHei"/>
              </a:rPr>
              <a:t>Kussmaul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-ово дисање, уремијски задах, хеморагијски синдром, грчеви, најчешће у потколеницама, понекад и генерализовани, поремећај свести од сомноленције, преко сопора до ком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42960" y="1785960"/>
            <a:ext cx="6786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У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о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хематурија, порфирија, употреба ле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 уношење одређене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ир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монијакалан мирис, устајали мирис, мирис трулог воћа, мирис на ац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1200-2000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/24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Calibri"/>
                <a:ea typeface="Microsoft YaHe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5840" y="285840"/>
            <a:ext cx="771516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акција мокраће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4.4-8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пецифична тежина мокраће (1015-10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еланчевине у урин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: к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валитативно (сулфосалицилном киселином, кувањем, тест тракама) и квантитативно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iuret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и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sbach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робилин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Гликоз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етонска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и микроскопском прегледу седимента урина могу се у њему наћи бактерије, гљивице или сперматоз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актериолошко испитивање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K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рин на Левенштајн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CR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71680" y="2071800"/>
            <a:ext cx="7143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линички значај хематур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гледа се у промени облика еритр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ежурани пролазе ГБ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вежи настају у дисталним партијама мокраћ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5840" y="1714680"/>
            <a:ext cx="75009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пителне ћелиј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 (из површног епителног слоја мокраћ. путе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укоцити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већина су ПМН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ритроцити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бубрежног или ванбубрежног порек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цилиндри 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одливци тубула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хијалини-код сваке протеинуриј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гранулисани-протеинска супстанца и дегенерисане туб. ћелије, еритроцитни-доказ су да је крвављење бубрежног порекл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укоцитни-последица запаљењског оштећења епитела тубула и настају агломерацијом на цилиндре другог порекла, воштани-настају у патолошки проширеним тубул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68360" y="1916280"/>
            <a:ext cx="7461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за идентификацију малигних ћелија у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лаз треба понављ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типичне ћелије у урину нису увек потврда малигнитета (нефролитијаза и запаљенске болести уротра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33200" y="3267000"/>
            <a:ext cx="816948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255600" y="219240"/>
            <a:ext cx="7450200" cy="645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57200" y="928800"/>
            <a:ext cx="35211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аран орган,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ештен ретроперитоне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ијаметар: 10-12 цм, 4-6 цм, 2 ц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купна тежина бубрега је око 300 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ложени су у висин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ребра, десни ниже од лев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есни хипохондр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ви хипохондр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есни лумбални пре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ви лумбални пре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убични преде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окраћна беш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7816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rcRect l="15712" t="0" r="12499" b="0"/>
          <a:stretch/>
        </p:blipFill>
        <p:spPr>
          <a:xfrm>
            <a:off x="4143240" y="1071720"/>
            <a:ext cx="35719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468360" y="1643040"/>
            <a:ext cx="7532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Јачина бубрежног протока плазме (ЈБПП) представља меру  којом се целокупна количина одређене супстанције из плазме, у јединици времена, излучи ури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За одређивање јачине протока плазме кроз бубреге користи се супстанца која се излучује ГФ и активном ТЕ (клиренс ПА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Једноставније одређивање ЈБПП је изотопским метода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alibri"/>
                <a:ea typeface="Microsoft YaHei"/>
              </a:rPr>
              <a:t>125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-hipurat</a:t>
            </a:r>
            <a:r>
              <a:rPr b="0" i="1" lang="sr-R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нормална ЈБПП - 625</a:t>
            </a:r>
            <a:r>
              <a:rPr b="1" lang="sr-Latn-CS" sz="2600" spc="-1" strike="noStrike">
                <a:solidFill>
                  <a:srgbClr val="ff3300"/>
                </a:solidFill>
                <a:latin typeface="Calibri"/>
                <a:ea typeface="Microsoft YaHei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l/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65240" y="353880"/>
            <a:ext cx="7845120" cy="8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95280" y="1844640"/>
            <a:ext cx="76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Одређивање јачине гломерулске фил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лиренс инулина 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филтрује се у гломерулима, а не реабсорбује нити екскретује у тубул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лиренс ендогеног креатинина 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излучује се у гломерулима, незнатно се секретује у проксималним тубулима, зато за 20% показује веће вредности од реалн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адионуклеидне методе (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зотопски обележени егзогени марке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65240" y="353880"/>
            <a:ext cx="7845120" cy="8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68200" y="66600"/>
            <a:ext cx="8425080" cy="6526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15920" y="762120"/>
            <a:ext cx="7985160" cy="6053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71880" y="5504040"/>
            <a:ext cx="5000400" cy="916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ре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краће и концентрације бикарбоната у плазми може указати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стемску ацид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7961400" cy="63687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 rot="19680000">
            <a:off x="220680" y="777600"/>
            <a:ext cx="2119320" cy="901440"/>
          </a:xfrm>
          <a:custGeom>
            <a:avLst/>
            <a:gdLst>
              <a:gd name="textAreaLeft" fmla="*/ 431280 w 2119320"/>
              <a:gd name="textAreaRight" fmla="*/ 1519200 w 2119320"/>
              <a:gd name="textAreaTop" fmla="*/ 120600 h 901440"/>
              <a:gd name="textAreaBottom" fmla="*/ 7808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92" hR="21600" stAng="10800000" swAng="5400000"/>
                <a:lnTo>
                  <a:pt x="11089" y="0"/>
                </a:lnTo>
                <a:arcTo wR="8792" hR="21600" stAng="-5400000" swAng="2934071"/>
                <a:lnTo>
                  <a:pt x="21093" y="14373"/>
                </a:lnTo>
                <a:lnTo>
                  <a:pt x="18732" y="21600"/>
                </a:lnTo>
                <a:lnTo>
                  <a:pt x="15356" y="14373"/>
                </a:lnTo>
                <a:lnTo>
                  <a:pt x="17076" y="14373"/>
                </a:lnTo>
                <a:arcTo wR="8792" hR="21600" stAng="-2465929" swAng="-2749878"/>
                <a:lnTo>
                  <a:pt x="9940" y="185"/>
                </a:lnTo>
                <a:arcTo wR="8792" hR="21600" stAng="-5584193" swAng="-5215807"/>
                <a:close/>
              </a:path>
              <a:path fill="darkenLess" w="21600" h="21600">
                <a:moveTo>
                  <a:pt x="0" y="21600"/>
                </a:moveTo>
                <a:arcTo wR="8792" hR="21600" stAng="10800000" swAng="5400000"/>
                <a:lnTo>
                  <a:pt x="8792" y="0"/>
                </a:lnTo>
                <a:arcTo wR="8792" hR="21600" stAng="-5400000" swAng="184193"/>
                <a:lnTo>
                  <a:pt x="9940" y="185"/>
                </a:lnTo>
                <a:arcTo wR="8792" hR="21600" stAng="-5584193" swAng="-5215807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3860000">
            <a:off x="5948280" y="788400"/>
            <a:ext cx="1554120" cy="922320"/>
          </a:xfrm>
          <a:custGeom>
            <a:avLst/>
            <a:gdLst>
              <a:gd name="textAreaLeft" fmla="*/ 334800 w 1554120"/>
              <a:gd name="textAreaRight" fmla="*/ 1235160 w 1554120"/>
              <a:gd name="textAreaTop" fmla="*/ 123480 h 922320"/>
              <a:gd name="textAreaBottom" fmla="*/ 798840 h 9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08" hR="21600" stAng="10800000" swAng="-5400000"/>
                <a:lnTo>
                  <a:pt x="12513" y="21600"/>
                </a:lnTo>
                <a:arcTo wR="9308" hR="21600" stAng="5400000" swAng="-3504841"/>
                <a:lnTo>
                  <a:pt x="21290" y="5532"/>
                </a:lnTo>
                <a:lnTo>
                  <a:pt x="20218" y="0"/>
                </a:lnTo>
                <a:lnTo>
                  <a:pt x="18525" y="5532"/>
                </a:lnTo>
                <a:lnTo>
                  <a:pt x="18305" y="5532"/>
                </a:lnTo>
                <a:arcTo wR="9308" hR="21600" stAng="1895159" swAng="3246417"/>
                <a:lnTo>
                  <a:pt x="10910" y="21277"/>
                </a:lnTo>
                <a:arcTo wR="9308" hR="21600" stAng="5658424" swAng="5141576"/>
                <a:close/>
              </a:path>
              <a:path fill="darkenLess" w="21600" h="21600">
                <a:moveTo>
                  <a:pt x="0" y="0"/>
                </a:moveTo>
                <a:arcTo wR="9308" hR="21600" stAng="10800000" swAng="-5400000"/>
                <a:lnTo>
                  <a:pt x="12513" y="21600"/>
                </a:lnTo>
                <a:arcTo wR="9308" hR="21600" stAng="5400000" swAng="258424"/>
                <a:lnTo>
                  <a:pt x="10910" y="21277"/>
                </a:lnTo>
                <a:arcTo wR="9308" hR="21600" stAng="5658424" swAng="5141576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85840" y="5594400"/>
            <a:ext cx="1927080" cy="833400"/>
            <a:chOff x="285840" y="5594400"/>
            <a:chExt cx="1927080" cy="833400"/>
          </a:xfrm>
        </p:grpSpPr>
        <p:sp>
          <p:nvSpPr>
            <p:cNvPr id="493" name=""/>
            <p:cNvSpPr/>
            <p:nvPr/>
          </p:nvSpPr>
          <p:spPr>
            <a:xfrm>
              <a:off x="285840" y="5594400"/>
              <a:ext cx="1927080" cy="833400"/>
            </a:xfrm>
            <a:prstGeom prst="rect">
              <a:avLst/>
            </a:prstGeom>
            <a:solidFill>
              <a:srgbClr val="ff0000"/>
            </a:solidFill>
            <a:ln cap="sq"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5840" y="5594400"/>
              <a:ext cx="19270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sr-RS" sz="2000" spc="-1" strike="noStrike">
                  <a:solidFill>
                    <a:srgbClr val="ffffff"/>
                  </a:solidFill>
                  <a:latin typeface="Trebuchet MS"/>
                </a:rPr>
                <a:t>Волу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29200" y="5646600"/>
            <a:ext cx="2141640" cy="781200"/>
            <a:chOff x="5929200" y="5646600"/>
            <a:chExt cx="2141640" cy="781200"/>
          </a:xfrm>
        </p:grpSpPr>
        <p:sp>
          <p:nvSpPr>
            <p:cNvPr id="496" name=""/>
            <p:cNvSpPr/>
            <p:nvPr/>
          </p:nvSpPr>
          <p:spPr>
            <a:xfrm>
              <a:off x="5929200" y="5646600"/>
              <a:ext cx="2141640" cy="781200"/>
            </a:xfrm>
            <a:prstGeom prst="rect">
              <a:avLst/>
            </a:prstGeom>
            <a:solidFill>
              <a:srgbClr val="ff0000"/>
            </a:solidFill>
            <a:ln cap="sq"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29200" y="5646600"/>
              <a:ext cx="214164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sr-RS" sz="1800" spc="-1" strike="noStrike">
                  <a:solidFill>
                    <a:srgbClr val="ffffff"/>
                  </a:solidFill>
                  <a:latin typeface="Trebuchet MS"/>
                </a:rPr>
                <a:t>Концентрација честица у ури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 rot="19680000">
            <a:off x="331560" y="4331880"/>
            <a:ext cx="2028600" cy="760320"/>
          </a:xfrm>
          <a:custGeom>
            <a:avLst/>
            <a:gdLst>
              <a:gd name="textAreaLeft" fmla="*/ 424080 w 2028600"/>
              <a:gd name="textAreaRight" fmla="*/ 1462320 w 2028600"/>
              <a:gd name="textAreaTop" fmla="*/ 101880 h 760320"/>
              <a:gd name="textAreaBottom" fmla="*/ 658440 h 76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1" hR="21600" stAng="10800000" swAng="5400000"/>
                <a:lnTo>
                  <a:pt x="11055" y="0"/>
                </a:lnTo>
                <a:arcTo wR="9031" hR="21600" stAng="-5400000" swAng="3358975"/>
                <a:lnTo>
                  <a:pt x="21261" y="15734"/>
                </a:lnTo>
                <a:lnTo>
                  <a:pt x="19073" y="21600"/>
                </a:lnTo>
                <a:lnTo>
                  <a:pt x="16207" y="15734"/>
                </a:lnTo>
                <a:lnTo>
                  <a:pt x="17722" y="15734"/>
                </a:lnTo>
                <a:arcTo wR="9031" hR="21600" stAng="-2041025" swAng="-3197009"/>
                <a:lnTo>
                  <a:pt x="10043" y="136"/>
                </a:lnTo>
                <a:arcTo wR="9031" hR="21600" stAng="-5561966" swAng="-5238034"/>
                <a:close/>
              </a:path>
              <a:path fill="darkenLess" w="21600" h="21600">
                <a:moveTo>
                  <a:pt x="0" y="21600"/>
                </a:moveTo>
                <a:arcTo wR="9031" hR="21600" stAng="10800000" swAng="5400000"/>
                <a:lnTo>
                  <a:pt x="9031" y="0"/>
                </a:lnTo>
                <a:arcTo wR="9031" hR="21600" stAng="-5400000" swAng="161966"/>
                <a:lnTo>
                  <a:pt x="10043" y="136"/>
                </a:lnTo>
                <a:arcTo wR="9031" hR="21600" stAng="-5561966" swAng="-5238034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3860000">
            <a:off x="5917320" y="4342320"/>
            <a:ext cx="1473120" cy="855720"/>
          </a:xfrm>
          <a:custGeom>
            <a:avLst/>
            <a:gdLst>
              <a:gd name="textAreaLeft" fmla="*/ 309960 w 1473120"/>
              <a:gd name="textAreaRight" fmla="*/ 1144080 w 1473120"/>
              <a:gd name="textAreaTop" fmla="*/ 114480 h 855720"/>
              <a:gd name="textAreaBottom" fmla="*/ 7412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92" hR="21600" stAng="10800000" swAng="-5400000"/>
                <a:lnTo>
                  <a:pt x="12229" y="21600"/>
                </a:lnTo>
                <a:arcTo wR="9092" hR="21600" stAng="5400000" swAng="-3468636"/>
                <a:lnTo>
                  <a:pt x="21297" y="5532"/>
                </a:lnTo>
                <a:lnTo>
                  <a:pt x="19752" y="0"/>
                </a:lnTo>
                <a:lnTo>
                  <a:pt x="17600" y="5532"/>
                </a:lnTo>
                <a:lnTo>
                  <a:pt x="17880" y="5532"/>
                </a:lnTo>
                <a:arcTo wR="9092" hR="21600" stAng="1931364" swAng="3215659"/>
                <a:lnTo>
                  <a:pt x="10660" y="21276"/>
                </a:lnTo>
                <a:arcTo wR="9092" hR="21600" stAng="5652977" swAng="5147023"/>
                <a:close/>
              </a:path>
              <a:path fill="darkenLess" w="21600" h="21600">
                <a:moveTo>
                  <a:pt x="0" y="0"/>
                </a:moveTo>
                <a:arcTo wR="9092" hR="21600" stAng="10800000" swAng="-5400000"/>
                <a:lnTo>
                  <a:pt x="12229" y="21600"/>
                </a:lnTo>
                <a:arcTo wR="9092" hR="21600" stAng="5400000" swAng="252977"/>
                <a:lnTo>
                  <a:pt x="10660" y="21276"/>
                </a:lnTo>
                <a:arcTo wR="9092" hR="21600" stAng="5652977" swAng="5147023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57280" y="2049480"/>
            <a:ext cx="3357720" cy="2288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 ур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,6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нос протеина, мет.ацидоза и смањење калијума повећава pH у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гетаријанска исхрана, унос киселог поврћа, мет.алкалоза, ренална тубуларна ацидоза повећава алкалност 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5840" y="2571840"/>
            <a:ext cx="7500960" cy="1928880"/>
          </a:xfrm>
          <a:prstGeom prst="rect">
            <a:avLst/>
          </a:prstGeom>
          <a:solidFill>
            <a:srgbClr val="e5c6d5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Специфична тежина и </a:t>
            </a:r>
            <a:r>
              <a:rPr b="0" lang="sr-RS" sz="2300" spc="-1" strike="noStrike">
                <a:solidFill>
                  <a:srgbClr val="000000"/>
                </a:solidFill>
                <a:latin typeface="Trebuchet MS"/>
              </a:rPr>
              <a:t>запремина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 излучене мокраће су обрнуто пропорционални (осим код ДМ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Осмолалност мокраће је мера концентрације растворених супстанци у мокраћ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2600" y="225360"/>
            <a:ext cx="7997760" cy="10000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85840" y="1785960"/>
            <a:ext cx="753264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ативни снимак уротра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кскрециона урографија (интравенска и инфузион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троградна и антероградна урографија (цистограф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троградна цистографија и микциона цистограф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нгиографија крвних судова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мпјутеризована томограф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агнетна резона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лтрасонограф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опплер сонограф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12640" y="281160"/>
            <a:ext cx="8150400" cy="11937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величине и изгледа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спитивање рекурентне уринарне опструк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ткривање и локализација калку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суспектне уринарне опструк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узрока хематур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12640" y="-6480"/>
            <a:ext cx="8082000" cy="1384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ља процена бубрежних ма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аздвајање масе од калцифик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нефункционишућег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трауме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ијагноза феохромоцитома у надбубре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38120" y="281160"/>
            <a:ext cx="8352000" cy="12664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95280" y="1844640"/>
            <a:ext cx="76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ао допуна ЦТ у процени реналних ма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ао алтернатива за ЦТ код особа које не подносе контрастна сред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валуација суспектног феохромоцито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тромбозе реналне ве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 васкуларних поремећаја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9360" y="52056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Ангиограф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355480" y="1143000"/>
            <a:ext cx="2003400" cy="857160"/>
          </a:xfrm>
          <a:prstGeom prst="line">
            <a:avLst/>
          </a:prstGeom>
          <a:ln cap="sq" w="936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1143000"/>
            <a:ext cx="2143080" cy="785880"/>
          </a:xfrm>
          <a:prstGeom prst="line">
            <a:avLst/>
          </a:prstGeom>
          <a:ln cap="sq" w="936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00040" y="20001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Дијагности</a:t>
            </a:r>
            <a:r>
              <a:rPr b="0" lang="sr-CS" sz="3200" spc="-1" strike="noStrike">
                <a:solidFill>
                  <a:srgbClr val="b13f9a"/>
                </a:solidFill>
                <a:latin typeface="Calibri"/>
              </a:rPr>
              <a:t>ч</a:t>
            </a: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29160" y="20001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Терапиј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2920" y="2786040"/>
            <a:ext cx="5176800" cy="2533320"/>
          </a:xfrm>
          <a:prstGeom prst="rect">
            <a:avLst/>
          </a:prstGeom>
          <a:solidFill>
            <a:srgbClr val="ffffff"/>
          </a:solidFill>
          <a:ln cap="sq"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Сумњива стеноза/оклузија а. ренал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Сумња на арте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Перзистентна необјашњива хемату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Претрансплан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Тромбоза реналне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Компликације трауме или полицистичних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00800" y="2786040"/>
            <a:ext cx="2357280" cy="1008720"/>
          </a:xfrm>
          <a:prstGeom prst="rect">
            <a:avLst/>
          </a:prstGeom>
          <a:solidFill>
            <a:srgbClr val="ffffff"/>
          </a:solidFill>
          <a:ln cap="sq"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13f9a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b13f9a"/>
                </a:solidFill>
                <a:latin typeface="Calibri"/>
              </a:rPr>
              <a:t>Анги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b13f9a"/>
                </a:solidFill>
                <a:latin typeface="Calibri"/>
              </a:rPr>
              <a:t>Ангиоокл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b13f9a"/>
                </a:solidFill>
                <a:latin typeface="Calibri"/>
              </a:rPr>
              <a:t>Тромб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85640" y="1916280"/>
            <a:ext cx="737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тичка сцинти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Динамска сцинти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о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Нуклеарно-медицинске методе</a:t>
            </a:r>
            <a:r>
              <a:rPr b="0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 одређивање клире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434960" y="1600200"/>
            <a:ext cx="2082960" cy="21859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5214960" y="1643040"/>
            <a:ext cx="2071800" cy="2185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1506600" y="3938760"/>
            <a:ext cx="1940040" cy="2187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5141880" y="3938760"/>
            <a:ext cx="222408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5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ркутана биопс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ансјугуларна биопс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Отворена биопс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 већини случајева-перкутана (˝преко коже˝) пацијент у свесном стању, принципи сепсе и антисепсе у локалној анестез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гла за биопсију се уводи кроз кожу, навођењем под контролом ултразвука, рентгена или одређених ендоскопских метода, биоптира се ткиво за патолошку анали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68360" y="1916280"/>
            <a:ext cx="7532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ефротски синдр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истемски еритемски луп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рзопрогредирајући гломерулонефрит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горшање ф-је трансплантираног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симптоматска хемат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симптома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кутна инсуфицијенција бубрега нејасног узро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68360" y="1916280"/>
            <a:ext cx="7532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псолутне (поремећај крвављења, немогућност сарадње са болесником, нерегулисана хипертензија, хипотенз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лативне (смањени бубрези око 9 цм, екстремна гојазност, цисте на месту где се врши биопсија, пијелонефритис, апсцес бубрега, хидронефро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Светлосним микроскоп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Имунофлуоресцентном микроскопиј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Електронском микроскопиј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65040" y="-6480"/>
            <a:ext cx="8541000" cy="13845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икроскопско крвављ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акроскопско крвављ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ериренални хема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ртериовенска фист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вреда околних орг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ефректом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р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7960" y="420840"/>
            <a:ext cx="3638520" cy="10839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357880" y="1643040"/>
            <a:ext cx="3429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1.бубрежна кора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ortex renalis, labyrinthus renali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2.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Bertinijevi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 стубићи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ollumnae renal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3.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Malpigijeve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 пирамид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pyramides renal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4. мале бубрежне чашиц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alices renales minor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5. велике бубрежне чашиц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alices renales major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6. бубрежна карлица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 renali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7. мокраћовод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ureter</a:t>
            </a:r>
            <a:r>
              <a:rPr b="0" lang="sr-Latn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49360" y="811080"/>
            <a:ext cx="4430520" cy="44373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rcRect l="0" t="0" r="0" b="20006"/>
          <a:stretch/>
        </p:blipFill>
        <p:spPr>
          <a:xfrm>
            <a:off x="857160" y="4857840"/>
            <a:ext cx="278604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353880" y="5278320"/>
            <a:ext cx="84362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85840" y="6000840"/>
            <a:ext cx="8572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Microsoft YaHei"/>
              </a:rPr>
              <a:t>У сваком бубрегу се налази више од милион нефрона, који се састоји од гломерула и ту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44600" y="347760"/>
            <a:ext cx="4224240" cy="4894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rcRect l="13338" t="12278" r="8332" b="5267"/>
          <a:stretch/>
        </p:blipFill>
        <p:spPr>
          <a:xfrm>
            <a:off x="4357800" y="571680"/>
            <a:ext cx="36432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07880" y="115920"/>
            <a:ext cx="8742600" cy="11095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85840" y="1428840"/>
            <a:ext cx="78580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нормално мокри (количински и тегоб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мокри често (дан-ноћ), да ли мокри мање или обилно и када (дан/ноћ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има сметње (болове) при мокрењ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има промене у боји и изгледу мокраћ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има појаву крви у мокраћ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д жена питати за менструални циклус (када је била прва менструација, да ли је уредна, колико траје, да ли је обилна, болн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је имала порођаје и колико, да ли је имала мртворођене дец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је имала побача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је имала и да ли има друге поремећаје у току менструа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2920" y="1928880"/>
            <a:ext cx="81439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нспекциј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х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морагијск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грозни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са бубрежним синдромо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, ГНФ, едеми, боја коже и слузокоже, калцификације,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алпација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ормално се не могу палпирати, осим када су увећани: тумор, ТБЦ, ПББ, хидронефр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еркусија код здравих особа не провоцира бол, осим код болесника са калкулозом или дифузним запаљењем капсуле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ускултација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д сумње на стенозу бубреж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42920" y="178596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кскреторна функција </a:t>
            </a:r>
            <a:r>
              <a:rPr b="0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излучивање отпадних производа метаболизма, вишак воде и електролита, као и супстанце стране организму) одржава </a:t>
            </a:r>
            <a:r>
              <a:rPr b="1" lang="sr-CS" sz="28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хомеостазу орган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утем гломерулске ултрафилтрације, тубулске реапсорпције, екскреције и секре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етаболичка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ндокрина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437680" cy="11937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1280" y="1928880"/>
            <a:ext cx="8001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Поремећај мокрења</a:t>
            </a: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изурија (отежано и болно мокрењ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лакисурија (учестало мокрење мање количин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иктурија (буђење ноћу због потребе мокрењ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нконтиненција (немогућност контролисања мокрењ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нуреза (неконтролисано мокрење током сн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Промена у запремини мокраћ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лиур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лигур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нур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5T20:13:08Z</dcterms:created>
  <dc:creator>Windows User</dc:creator>
  <dc:description/>
  <dc:language>en-US</dc:language>
  <cp:lastModifiedBy>Windows User</cp:lastModifiedBy>
  <dcterms:modified xsi:type="dcterms:W3CDTF">2020-10-01T06:01:28Z</dcterms:modified>
  <cp:revision>3</cp:revision>
  <dc:subject/>
  <dc:title>ПРОПЕДЕВТИКА БУБРЕГА И МОКРАЋНИХ ПУТЕВА</dc:title>
</cp:coreProperties>
</file>